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4F9-E248-4D52-835F-ABFEBF40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64C-E98F-4781-8248-3502B335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AB0-9399-4C0A-A8A6-F019A7BF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22C-8CCF-4F38-9808-D693AADA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E05-099E-4278-9E72-32402DF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FBC-1429-4F2F-A729-B506BA52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8A3-9259-4C17-902B-1999B307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40B-E2BA-4AE4-9E19-C4507B83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380-40F9-4558-8F21-3A95B4C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B38-10B1-4361-8165-F8440E9C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CF1-0F99-4A83-AD2D-B687DA63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A84-A5E2-42F9-B666-D15A46F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9C79-E2EB-47E5-980A-C9C07AFD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oxbrown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en.wikipedia.org/wiki/File:Boxbrown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old by  Cameron.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27800" y="228600"/>
            <a:ext cx="1816200" cy="167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11 -0.00092 C -0.11423 -0.00739 -0.12118 -0.02127 -0.1309 -0.02196 C -0.1552 -0.02381 -0.17951 -0.02335 -0.20381 -0.02404 C -0.23645 -0.05202 -0.28107 -0.0319 -0.31979 -0.0326 C -0.36597 -0.05317 -0.42673 -0.04416 -0.47204 -0.04531 C -0.50538 -0.04092 -0.53767 -0.04277 -0.56892 -0.0578 C -0.57569 -0.06104 -0.58246 -0.06427 -0.58958 -0.06635 C -0.59583 -0.0682 -0.60868 -0.07052 -0.60868 -0.07052 C -0.61024 -0.07121 -0.61197 -0.07144 -0.61336 -0.0726 C -0.61458 -0.07375 -0.6151 -0.0763 -0.61649 -0.07699 C -0.621 -0.07953 -0.62621 -0.07907 -0.6309 -0.08115 C -0.64218 -0.08601 -0.65347 -0.09109 -0.66423 -0.09803 C -0.67708 -0.1156 -0.68524 -0.11329 -0.70538 -0.11491 C -0.71649 -0.11329 -0.72673 -0.11121 -0.73715 -0.10659 C -0.74288 -0.1015 -0.74756 -0.09526 -0.75312 -0.08971 C -0.76145 -0.06659 -0.77517 -0.04878 -0.78645 -0.0282 C -0.79704 -0.00878 -0.80381 0.01295 -0.81336 0.03307 C -0.81441 0.03792 -0.81631 0.04278 -0.81649 0.04787 C -0.81718 0.06521 -0.81562 0.08879 -0.80381 0.10058 C -0.79861 0.10567 -0.79062 0.10659 -0.78489 0.11122 C -0.78003 0.11515 -0.77586 0.12162 -0.77048 0.12394 C -0.76319 0.12717 -0.75972 0.13064 -0.75156 0.13226 C -0.74357 0.13388 -0.7276 0.13665 -0.7276 0.13665 C -0.71388 0.13365 -0.67968 0.12717 -0.66423 0.11977 C -0.64687 0.11145 -0.65295 0.10914 -0.63871 0.09642 C -0.62222 0.08162 -0.60486 0.06821 -0.58802 0.05411 C -0.56979 0.03885 -0.55243 0.00879 -0.53871 -0.01341 C -0.54149 -0.01896 -0.54305 -0.02566 -0.5467 -0.03052 C -0.56493 -0.05479 -0.60173 -0.06173 -0.62604 -0.06427 C -0.64722 -0.06659 -0.68958 -0.07052 -0.68958 -0.07052 C -0.7184 -0.06843 -0.73489 -0.06682 -0.75781 -0.04531 C -0.7618 -0.04161 -0.76562 -0.03745 -0.76892 -0.0326 C -0.77395 -0.0252 -0.78316 -0.00924 -0.78316 -0.00924 C -0.78559 -0.000229999999999999 -0.78941 0.00671 -0.79114 0.01619 C -0.79062 0.02313 -0.79062 0.03029 -0.78958 0.03723 C -0.7875 0.05041 -0.77795 0.05896 -0.77204 0.06891 C -0.75816 0.09272 -0.75225 0.11538 -0.7276 0.12185 C -0.72204 0.12717 -0.71545 0.13064 -0.71024 0.13665 C -0.70503 0.14266 -0.70104 0.15145 -0.696 0.15769 C -0.68802 0.1674 -0.67691 0.18012 -0.66736 0.18729 C -0.65451 0.197 -0.64027 0.20162 -0.62604 0.20625 C -0.61441 0.20347 -0.6026 0.20185 -0.59114 0.19792 C -0.58142 0.19446 -0.58472 0.1896 -0.57691 0.18313 C -0.55972 0.16902 -0.54062 0.16209 -0.52447 0.14498 C -0.51631 0.13619 -0.50972 0.12463 -0.50069 0.11746 C -0.47048 0.09388 -0.48107 0.10613 -0.46579 0.08578 C -0.46788 0.05758 -0.47291 0.04856 -0.48645 0.02659 C -0.49479 0.01295 -0.50538 -0.01156 -0.51979 -0.0178 C -0.52673 -0.02404 -0.53385 -0.02427 -0.54201 -0.02612 C -0.55625 -0.0326 -0.55451 -0.03514 -0.57048 -0.0326 C -0.57864 -0.02173 -0.58159 -0.01179 -0.58645 0.00139 C -0.59409 0.02174 -0.6 0.03677 -0.60538 0.05827 C -0.60503 0.06775 -0.60729 0.11052 -0.59913 0.12185 C -0.59496 0.13573 -0.58819 0.14567 -0.58159 0.15769 C -0.57829 0.1637 -0.57934 0.16532 -0.57378 0.16833 C -0.56875 0.1711 -0.56302 0.17226 -0.55781 0.17457 C -0.55625 0.17526 -0.55312 0.17665 -0.55312 0.17665 C -0.54531 0.18382 -0.53906 0.18359 -0.52934 0.18521 C -0.4651 0.17873 -0.5052 0.18405 -0.47691 0.17457 C -0.46493 0.1644 -0.45138 0.15769 -0.43871 0.14937 C -0.43316 0.14567 -0.42847 0.14035 -0.42291 0.13665 C -0.41545 0.12625 -0.42482 0.13781 -0.41493 0.13018 C -0.41111 0.12717 -0.40798 0.12185 -0.40381 0.11977 C -0.39496 0.11515 -0.38576 0.11191 -0.37691 0.10706 C -0.35191 0.09295 -0.36979 0.09873 -0.35312 0.09434 C -0.33177 0.08047 -0.31041 0.07261 -0.28802 0.06058 C -0.28611 0.05966 -0.2651 0.04532 -0.25937 0.04139 C -0.246 0.03237 -0.24687 0.037 -0.23246 0.03099 C -0.22274 0.02683 -0.21336 0.02058 -0.20381 0.01619 C -0.18958 0.00972 -0.17083 0.00902 -0.15625 0.00763 C -0.14618 0.00555 -0.13628 0.00232 -0.12604 0.00763 C -0.12222 0.00972 -0.12083 0.01619 -0.11822 0.02035 C -0.11545 0.03122 -0.10816 0.06706 -0.10225 0.07538 C -0.09878 0.08948 -0.09913 0.08625 -0.09913 0.11122 C -0.09913 0.13457 -0.09982 0.15769 -0.10069 0.18104 C -0.10191 0.21272 -0.11145 0.23792 -0.13246 0.25295 C -0.14131 0.2592 -0.14704 0.25896 -0.15625 0.26336 C -0.16006 0.26521 -0.16354 0.26844 -0.16736 0.26983 C -0.18437 0.27631 -0.20295 0.27446 -0.21979 0.28255 C -0.27326 0.28116 -0.32656 0.28024 -0.38003 0.27815 C -0.40364 0.27723 -0.42847 0.2696 -0.44357 0.2444 C -0.45538 0.20417 -0.44652 0.15954 -0.42291 0.13018 C -0.41302 0.11792 -0.40069 0.10914 -0.39114 0.09642 C -0.38645 0.09018 -0.38246 0.08255 -0.37691 0.07746 C -0.35902 0.06081 -0.33246 0.05457 -0.3118 0.04787 C -0.28645 0.05064 -0.26076 0.05041 -0.23559 0.05619 C -0.22951 0.05758 -0.22534 0.06544 -0.21979 0.06891 C -0.21163 0.07399 -0.2026 0.07677 -0.19427 0.08162 C -0.17656 0.09226 -0.15937 0.10405 -0.14201 0.11538 C -0.1342 0.12047 -0.12482 0.11885 -0.11649 0.12185 C -0.0993 0.12787 -0.09548 0.13133 -0.08159 0.14081 C -0.07274 0.15885 -0.07447 0.16648 -0.07048 0.18729 C -0.07395 0.28509 -0.07968 0.24856 -0.18003 0.25295 C -0.18142 0.32116 -0.17309 0.31769 -0.196 0.35422 C -0.20052 0.36139 -0.20173 0.36394 -0.20868 0.36694 C -0.2118 0.37989 -0.22378 0.38706 -0.23246 0.39237 C -0.23906 0.39631 -0.24461 0.40209 -0.25156 0.40509 C -0.2651 0.41711 -0.27829 0.42983 -0.29114 0.44301 C -0.30191 0.45411 -0.31006 0.47122 -0.32291 0.477 C -0.33437 0.48209 -0.34392 0.49157 -0.35468 0.49804 C -0.36631 0.50498 -0.3776 0.52093 -0.39114 0.52139 C -0.41076 0.52209 -0.4302 0.52278 -0.44982 0.52347 C -0.45625 0.52417 -0.46267 0.5244 -0.46892 0.52555 C -0.47309 0.52625 -0.47638 0.52972 -0.48003 0.5318 C -0.48906 0.53665 -0.49913 0.53989 -0.50868 0.54243 C -0.5125 0.54498 -0.51579 0.54891 -0.51979 0.55099 C -0.53125 0.55677 -0.54566 0.55515 -0.55781 0.55723 C -0.56909 0.56694 -0.57118 0.57064 -0.5927 0.55723 C -0.59583 0.55538 -0.58836 0.55029 -0.58645 0.54659 C -0.58368 0.54104 -0.58159 0.5348 -0.57847 0.52972 C -0.57204 0.51908 -0.54409 0.48763 -0.54201 0.48532 C -0.49913 0.43515 -0.46371 0.42451 -0.41024 0.41573 C -0.38697 0.40648 -0.36284 0.40509 -0.33871 0.40301 C -0.26423 0.41203 -0.30295 0.39607 -0.27691 0.42197 C -0.2684 0.4407 -0.26232 0.46012 -0.25781 0.48116 C -0.25833 0.50289 -0.25781 0.52486 -0.25937 0.54659 C -0.25972 0.55076 -0.27413 0.55815 -0.27534 0.55931 C -0.28715 0.57087 -0.2993 0.5822 -0.31024 0.59538 C -0.31684 0.60347 -0.32083 0.61503 -0.3276 0.62289 C -0.33263 0.62868 -0.33975 0.63029 -0.34513 0.63538 C -0.35659 0.64602 -0.36788 0.65711 -0.37847 0.66937 C -0.40277 0.69735 -0.3809 0.6874 -0.40868 0.69457 C -0.45555 0.72232 -0.43385 0.71677 -0.47204 0.72 C -0.52395 0.7133 -0.53489 0.72162 -0.56736 0.68417 C -0.57222 0.67862 -0.58003 0.67469 -0.58003 0.66498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enry w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was born a s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enry's Freedom Box"/>
          <p:cNvPicPr/>
          <p:nvPr/>
        </p:nvPicPr>
        <p:blipFill>
          <a:blip r:embed="rId1"/>
          <a:stretch/>
        </p:blipFill>
        <p:spPr>
          <a:xfrm>
            <a:off x="2057400" y="2590920"/>
            <a:ext cx="3130560" cy="396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master gave him to his son because he was very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633760"/>
            <a:ext cx="4771800" cy="376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met N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met Nancy walk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married 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Henry's Freedom Box"/>
          <p:cNvPicPr/>
          <p:nvPr/>
        </p:nvPicPr>
        <p:blipFill>
          <a:blip r:embed="rId1"/>
          <a:stretch/>
        </p:blipFill>
        <p:spPr>
          <a:xfrm>
            <a:off x="1984320" y="2971800"/>
            <a:ext cx="307044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7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didn’t like the way his master treat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henry_box..."/>
          <p:cNvPicPr/>
          <p:nvPr/>
        </p:nvPicPr>
        <p:blipFill>
          <a:blip r:embed="rId1"/>
          <a:stretch/>
        </p:blipFill>
        <p:spPr>
          <a:xfrm>
            <a:off x="2057400" y="3352680"/>
            <a:ext cx="2914560" cy="255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finally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2400" y="486252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321680" y="481824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481880" y="1890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09680" y="3276720"/>
            <a:ext cx="344808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35Z</dcterms:created>
  <dc:creator>test</dc:creator>
  <dc:description/>
  <dc:language>en-US</dc:language>
  <cp:lastModifiedBy>test</cp:lastModifiedBy>
  <dcterms:modified xsi:type="dcterms:W3CDTF">2011-03-28T13:42:02Z</dcterms:modified>
  <cp:revision>7</cp:revision>
  <dc:subject/>
  <dc:title>Henry’s Freedom Box</dc:title>
</cp:coreProperties>
</file>